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16.jpeg" ContentType="image/jpeg"/>
  <Override PartName="/ppt/media/chimes.wav" ContentType="audio/x-wav"/>
  <Override PartName="/ppt/media/image8.jpeg" ContentType="image/jpeg"/>
  <Override PartName="/ppt/media/image3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9.jpeg" ContentType="image/jpeg"/>
  <Override PartName="/ppt/media/image4.png" ContentType="image/png"/>
  <Override PartName="/ppt/media/image12.jpeg" ContentType="image/jpeg"/>
  <Override PartName="/ppt/media/image11.jpeg" ContentType="image/jpeg"/>
  <Override PartName="/ppt/media/image31.gif" ContentType="image/gif"/>
  <Override PartName="/ppt/media/image29.gif" ContentType="image/gif"/>
  <Override PartName="/ppt/media/image28.png" ContentType="image/png"/>
  <Override PartName="/ppt/media/image7.jpeg" ContentType="image/jpeg"/>
  <Override PartName="/ppt/media/image1.jpeg" ContentType="image/jpeg"/>
  <Override PartName="/ppt/media/image27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17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10.jpeg" ContentType="image/jpeg"/>
  <Override PartName="/ppt/media/image21.gif" ContentType="image/gif"/>
  <Override PartName="/ppt/media/image22.gif" ContentType="image/gif"/>
  <Override PartName="/ppt/media/image18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E90-D75A-4835-BC7A-36475A05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782-EDC8-4CD0-802A-B04BF47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016-C9DB-474B-8BF6-7929BA23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E30-E41F-41A1-84D7-5F5EE29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6B5-FE28-4DD4-BA9E-5A13396B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DC9-5D98-483E-A86D-2951629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097-0C66-46DB-974D-C05E88F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490-F10D-4EAE-B890-6CB4138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58B-DF0D-4D39-8D42-C08D15E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958-286D-43E3-B5FB-C880181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48E-83F2-4EBC-8FEE-5B7C8F0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C35-F408-4724-8B42-42CC58A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498-AE2E-41A0-B021-5966D117F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53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990720"/>
            <a:ext cx="3809880" cy="55803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结庐在人境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而无车马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问君何能尔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心远地自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采菊东篱下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悠然见南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山气日夕佳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飞鸟相与还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此中有真意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欲辨已忘言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62064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方正美黑简体"/>
                <a:ea typeface="方正美黑简体"/>
              </a:rPr>
              <a:t>我在闹市居住，却没有世俗间车马喧嚣的纷扰。要问我是如何做到这点的，心情闲适，心境高远，所以居所也显得偏僻安静。我来到东边的篱笆下采摘菊花，悠然之间，苍翠巍峨的南山映入眼帘。夕阳西下，山上缥缈的云气形成美丽的景色，空中的飞鸟呼朋唤友地结伴飞回巢臼。此情此景，令我领略到一种纯真自然的意趣，我正想把它们辨析出来，忽然之间却忘了如何表达。</a:t>
            </a:r>
            <a:r>
              <a:rPr b="0" lang="zh-CN" sz="2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40184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2895480"/>
            <a:ext cx="754380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全员参与   自我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029200"/>
            <a:ext cx="7913520" cy="1008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自主学习    冲刺名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0592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57200"/>
            <a:ext cx="5181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把握生命中的大石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371600"/>
            <a:ext cx="51814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重新定位，敢于竞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38280"/>
            <a:ext cx="79567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志当存高远（“立大志者得中志，立中志者得小志，立小志者不得志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886200"/>
            <a:ext cx="64771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会当凌绝顶，一览众山小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952880"/>
            <a:ext cx="67820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更上一层楼”与“才上一层楼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019920"/>
            <a:ext cx="48006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杜绝“差不多”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8600"/>
            <a:ext cx="4952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不能“都是板凳惹的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7391520" cy="5814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小狗也要大声叫”（课堂就是出错的地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514600"/>
            <a:ext cx="624852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命运是一只沦落在鸡窝里的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429000"/>
            <a:ext cx="73152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播种一种行为，收获一种习惯；播种一种习惯，收获一种性格；播种一种性格，收获一种命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410080"/>
            <a:ext cx="7467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你的心在哪里，你的财富就在哪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617220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用上所有的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28600"/>
            <a:ext cx="76197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善始者实繁，克终者盖寡”（“靡不有初，鲜克有终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371600"/>
            <a:ext cx="46479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成功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勤学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会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057400"/>
            <a:ext cx="777240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祸患常积于忽微，智勇多困于所溺”（丢失一个钉子，坏了一只蹄铁；坏了一只蹄铁，折了一匹战马；折了一匹战马，伤了一位骑士；伤了一位骑士，输了一场战斗；输了一场战斗，亡了一个帝国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648320"/>
            <a:ext cx="76960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合抱之木，生于毫末；九层之台，起于垒土；千里之行，始于足下”（“泰山不拒细壤，故能成其高；江海不择细流，故能就其深。”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8440"/>
            <a:ext cx="9144000" cy="2161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是一个这样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是一个有良知的人，我将无愧于父母的养育之恩和老师的良苦用心；我是一个有骨气的人，我不会甘于平庸，碌碌无为，我将通过自信和努力改变人生，创造辉煌；我是一个意志坚强的人，我决不会言苦言累，“头悬梁锥刺骨”，将是我学习上永远的榜样；我是一个惜时如金的人，我决不会浪费分秒宝贵的时间，“三更灯五更鸡”，将是我学习上永远的写照；我是一个潜力无穷的人，我的潜力在于我始终不渝、脚踏实地、坚持不懈的努力；我是一个非常聪明的人，我的聪明在于我知道“我自信、我努力、我成功”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要把握每一天，不为时光流逝而伤感；我要精彩每一天，不为平平淡淡而苦恼；我要收获每一天，不为一事无成而悲哀。我要放飞梦想，超越自我，为每一天的精彩而喝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152280"/>
            <a:ext cx="4398840" cy="113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月峥嵘须拼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年华易逝莫蹉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苗丁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5475240" cy="1137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勇气骨气傲气人人争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信心恒心决心事事用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张思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819520"/>
            <a:ext cx="5618160" cy="113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绳锯木断硬石尚可点成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水滴石穿鲤鱼亦能化为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樊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191120"/>
            <a:ext cx="5715000" cy="1137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且行且看笑在最后不知是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屈不挠名题金榜必定有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卫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486400"/>
            <a:ext cx="6781680" cy="113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载书海满怀乐不负今日长征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十年寒窗不言苦只为明朝跃龙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赵英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60640" cy="174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4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81080" y="914400"/>
            <a:ext cx="5334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入境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1148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040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“冲刺高二，决胜高三”主题班会系列之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50120" y="533520"/>
            <a:ext cx="1521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  平  辛  苦  达  新  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38480" y="380880"/>
            <a:ext cx="152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静  思  竞  争  入  境  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1447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优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228600"/>
            <a:ext cx="26672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优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14600" y="99072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19720" y="990720"/>
            <a:ext cx="144756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228600"/>
            <a:ext cx="22860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学习标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238880" y="838080"/>
            <a:ext cx="1524240" cy="19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238880" y="2895480"/>
            <a:ext cx="15242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38880" y="49528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47920" y="4343400"/>
            <a:ext cx="43434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三好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1981080" y="4952880"/>
            <a:ext cx="162108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3809880" y="4919760"/>
            <a:ext cx="1524240" cy="1938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5486400" y="4919760"/>
            <a:ext cx="1523880" cy="1938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57200" y="3048120"/>
            <a:ext cx="617220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1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428760" y="1828800"/>
            <a:ext cx="1521000" cy="3505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期末班级十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1295280" cy="175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895480" y="152280"/>
            <a:ext cx="139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95680" y="1522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95880" y="152280"/>
            <a:ext cx="1295640" cy="17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696080" y="152280"/>
            <a:ext cx="123984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295280" y="5105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895480" y="5105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419720" y="51055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5943600" y="5105520"/>
            <a:ext cx="1371600" cy="175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75800" y="5105520"/>
            <a:ext cx="189684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石方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2209680"/>
          <a:ext cx="7696080" cy="2740320"/>
        </p:xfrm>
        <a:graphic>
          <a:graphicData uri="http://schemas.openxmlformats.org/drawingml/2006/table">
            <a:tbl>
              <a:tblPr/>
              <a:tblGrid>
                <a:gridCol w="1537920"/>
                <a:gridCol w="1540080"/>
                <a:gridCol w="1539720"/>
                <a:gridCol w="1540080"/>
                <a:gridCol w="15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11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43000" y="1447920"/>
          <a:ext cx="7772400" cy="29718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614520"/>
                <a:gridCol w="615960"/>
                <a:gridCol w="614160"/>
                <a:gridCol w="615960"/>
                <a:gridCol w="614520"/>
                <a:gridCol w="647640"/>
                <a:gridCol w="582480"/>
                <a:gridCol w="614520"/>
                <a:gridCol w="615960"/>
                <a:gridCol w="10065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张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梦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郑丽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任亚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李思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樊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英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孔艳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张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王利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校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市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43000" y="4952880"/>
          <a:ext cx="7772400" cy="173664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6720"/>
                <a:gridCol w="1293840"/>
                <a:gridCol w="1293840"/>
                <a:gridCol w="12970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郭露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刘亚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闫尚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438280" y="762120"/>
            <a:ext cx="40388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期末其他上线名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15720" y="4419720"/>
            <a:ext cx="1277640" cy="243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科状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9880" y="4724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800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00800" y="4800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696080" y="4724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9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7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685800"/>
            <a:ext cx="2743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步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1447920"/>
          <a:ext cx="6324480" cy="5175000"/>
        </p:xfrm>
        <a:graphic>
          <a:graphicData uri="http://schemas.openxmlformats.org/drawingml/2006/table">
            <a:tbl>
              <a:tblPr/>
              <a:tblGrid>
                <a:gridCol w="1580760"/>
                <a:gridCol w="1581480"/>
                <a:gridCol w="158112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崔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青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郑丽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石方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张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卫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刘亚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赵聪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郭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朱娱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郭露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翟思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赵鹏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郜静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闫尚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9680" y="380880"/>
            <a:ext cx="16426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 年 成 绩 须 向 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2720" y="380880"/>
            <a:ext cx="16426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明 朝 前 途 不 渺 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990720" y="0"/>
          <a:ext cx="72388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238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822960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726840" y="0"/>
            <a:ext cx="16426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高 考 高 中 志 更 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01320" y="0"/>
            <a:ext cx="164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飞 奔 飞 跃 心 飞 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1600200"/>
            <a:ext cx="8686800" cy="5061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团支书：郭露露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   班长：   樊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纪律班长：闫尚昆               学习委员：卫琳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生活委员：云明超                体育委员：卢勇播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宣传委员：赵英伟                文艺委员：王重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语文：赵静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数学：张静              英语：任亚飞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政治：刘亚楠          历史：孔艳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地理：张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音乐：王重阳          美术：赵英伟           信息：史琳娟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物理：  常磊            化学：张洋               生物：孙王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762120"/>
            <a:ext cx="30481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班委、课代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1942920" cy="129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27120" y="152280"/>
            <a:ext cx="2521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济源一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4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劳动分工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6:31:21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5:59Z</dcterms:modified>
  <cp:revision>33</cp:revision>
  <dc:subject>主题班会课件(分28大类): http://shop62905894.taobao.com</dc:subject>
  <dc:title>主题班会课件(分28大类): http://shop62905894.taobao.com</dc:title>
</cp:coreProperties>
</file>